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BB8-B534-494B-AEF4-048E364B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4F1-E20E-4E7B-BB81-FFC4EB29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6E0-5DC8-4234-B204-5FBD549E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128-3794-4C19-8770-CE174313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21C-9BD7-4747-B345-17612377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2C0-F071-478D-BC88-52EBEBA6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CED-F459-4427-9812-7872A419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830-06F4-4A64-BB05-B92AF5DD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98B-BE9D-48EA-8449-F51F11C4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C6E-4A6F-48E5-A3D2-FA851EF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6F4-4066-4D7A-B280-C4E00B5C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4DC-501C-44BA-87A9-C2B827A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0B18-1BBA-446A-A61E-26F830CD142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sledges did Robert Scott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ledges we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y eat well or bad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 return successful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wegia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ted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ful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2T05:12:48Z</dcterms:modified>
  <cp:revision>8</cp:revision>
  <dc:subject/>
  <dc:title>عرض تقديمي من PowerPoint</dc:title>
</cp:coreProperties>
</file>